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9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BAC2-79F3-46DA-9063-DAF0FF81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2D6-1A1C-4C56-ADB5-4D871D078C9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9D6A-0049-4606-A9A7-EBC55300CC6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406-56BE-49EF-85AA-5A31AFA7DF7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7FB-B37E-46B1-BC79-50DB4B1A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042-980A-4754-ABA7-E9BC2E2C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B77-4060-41CD-AB93-9180C6CA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68E-3A20-46E1-8488-EEA8DD4E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7488-F666-43D4-9819-C0CE571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C80D-5E5D-420D-AAD4-9EB5556A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BA9D-8EA4-4527-8FFC-A42936C0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8E6-80BA-4F8B-80C9-5D7AD3F3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14D2-1DAC-485F-A6FD-B205083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E7C3-F5F8-4D13-A03B-8B8510B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5470-666B-4DAB-8BC1-6312664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E10-17EE-4478-8D1D-64BE55AD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4231-4A8A-4051-8CD3-F997C202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ED8C-6404-40C7-A76B-550AB0B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41B6-CA9E-45BB-8050-448BD27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2DA-96A6-4CA4-BA3F-AE2F89C8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F9D-1479-4372-A5B6-82D6B7AA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57E3C-E2BE-4401-940D-E112C484D2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3FC1A-BF68-4D20-9852-21FB02B838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84313-9316-4B69-8D99-7E5ACEB66B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B9EE2-C0E1-413C-BD23-29675184BF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864A6-D292-482B-B550-790FDA790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843-9B86-415B-A74E-5988345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1BC03-BE07-4D3C-BF23-E5DFC91344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966BD-F76D-4A35-A611-9896DCBBBA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D1CBA-2E7D-4CB1-AA6A-BCBDABD5B3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CFE84-6D9D-4CC7-BA70-AA8A1207BF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D45E0B-C82A-405B-958D-D7F912C463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57067-6CDA-46D9-AAEF-CC0C278353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C7788-4726-4F44-AFE6-178DFD254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526-A6E1-4F82-A418-A3CEFCE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E72-E670-41CA-9574-EB6AFFD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95E-69A6-4018-A1AC-7310CACB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40F-1C44-42C0-B065-2310806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ECB-A2B4-4542-BA71-7C87F06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E3E-1E63-4BD3-94F7-C94F33F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DF5-34B0-4305-8631-5D8F1D3B7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28A3-2748-4483-BC04-5781454A7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D105-1AF0-45F1-8CEC-0A5DEF684C5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3504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КЛИНИЧКА ФИЗИКАЛНА ТЕРАПИЈА БОЛЕСНИКА СА МУЛТИПЛОМ СКЛЕРОЗОМ И ЕКСТРАПИРАМИДАЛНИМ ЛЕЗИЈАМ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имптом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SzPct val="1509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утрнулост или слабост у једном или више екстремитет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делимични или потпуни губитак вида, обично на једном оку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двослике или замућење вид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невољни покрети очима и треперење очних јабучиц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нажан нагон за мокрењем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надутост и нередовна столиц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оштећење сексуалних функциј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SzPct val="15095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емогућност ејакулације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поремећаји спавања и апетит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агле промене расположењ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трњење или болови у деловима тел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тремор, недостатак координације или несигуран ход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еразговетан говор, умор и вртоглавиц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проблеми с цревима и функцијом мокраћне бешике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186-6FC4-4F6E-8CB6-3DC6AA07F08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СИМПТОМИ И ЗНАЦИ МУЛТИПЛЕ СКЛЕРО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врсност симптома и знакова МС-а је последица бројних предилекционих места за настанак демијелинизационих плак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орни, сензитивни, визуелни, симптоми и знаци оштећења можданог стабла и малог мозга су најчешће манифестације боле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ође су веома чести и поремећај функције мокраћне бешике, црева, замор,бол и когнитивни поремећа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5ADD-D36D-4D42-99CD-4DD6D9C802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ОТОРНЕ МАНИФЕСТ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орни симптоми и знаци произилазе из захваћености кортикоспиналног (пирамидног), кортикобулбарног, церебеларних и сензитивних пут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моторни дефицит представља слабост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лабост једног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ремитета (монопареза), једне стране тела (хемипареза), парапарезе или слабости св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тири екстремите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квадрипареза). Слабост у доњим екстремитетима 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шћа и јавља се раније у односу на слабост у горњим екстремите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стицитет се јавља код великог броја болесника са МС, најчешће у ногама, а ређе у рук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FFD4-E153-4C37-ADF9-9894134D36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стичну хипертонију карактерише повишен мишићни тонус клинички праће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коченошћу, нелагодношћу, болом и ограниче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шћу услед немогућности захваћеног мишића да се опусти када није укључен у вољну активн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6D4B-E2A7-407E-A0FA-17220D0F3A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мијелинизационе промене малог мозга или његових аферентних или еферентних путева довод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таксије хода, трупа, екстремит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уларне и булбарне атаксиј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енционог трем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метр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163-A89B-4D60-AB10-106B8888B7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спиноталамичког пута се карактерише појавом сензитивних  симпто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ју најчешће симптоме који се јављају као почетна клиничка манифестација у МС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ци чешће имају позитивне сензације у виду парестезија, дизестезија, хиперпатије или алодиније, него смањење или одсуство сенз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2A9-48F6-4F3C-B7F2-B85B46FDB5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манифестације оштећења можданог стабле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 покретљивости очних јабучица са појавом дуплих слик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стагмус који је најчешће хоризонтал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томи и знаци лезије кранијалних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8704-446A-4C00-B1F4-BF7EC6C495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оптичког система се манифествује спонтаним болом у дубини ока или фронтално орбиталној регији, смањење оштрине вида, појава ското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функције сфинктера: ургетна микција, ретенција или инконтиненција, опстипација или фекална инконтинен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0CD5-F7F4-429D-858C-A346484C19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стој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иједн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линичк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анифестациј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ијагностичк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ликворск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аркер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апсолутн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пецифичан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ензитиван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линичк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ритеријуми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исеминациј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лезиј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времену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остору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одсуство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ругог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бољег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објаш</a:t>
            </a:r>
            <a:r>
              <a:rPr b="0" lang="sr-CS" sz="2200" spc="-1" strike="noStrike">
                <a:solidFill>
                  <a:srgbClr val="40458c"/>
                </a:solidFill>
                <a:latin typeface="Tahoma"/>
              </a:rPr>
              <a:t>њ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ењ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настале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облеме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917A-E6F0-47BB-A1CC-DAE5B16CBD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уролош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Лабораторијски преглед – ликвор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пунска 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мпјутеризована томограф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МР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изуелни евоцирани потенцијал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0F8-066A-40E2-9417-39E0A40DD1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ahoma"/>
              </a:rPr>
              <a:t>КЛИНИЧКА ФИЗИКАЛНА ТЕРАПИЈА БОЛЕСНИКА СА МУЛТИПЛОМ СКЛЕРОЗО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Анализа ликвора код МС-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95-99%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игоконал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к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иквор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тодом IEF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олигоклоналн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gG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лаг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ише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в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теи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ерпротеинорах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р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ћел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лага плеоци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50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525-CEAC-4BEF-8AA5-C092A03F79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дикаметоз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Хигијенско-дијететски режи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изикална 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инези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хидро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рмо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балне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6CD7-BE86-4DEB-9DC3-B2F2B33F02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дикаментоз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ЕЧЕЊЕ АКУТНЕ ФАЗЕ БОЛЕС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улсна кортикостероид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азмафереза (терапијска измена плазме,тешки релапси, не реагују на КС 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Е КОЈЕ МОДИФИКУЈУ ПРИРОДНИ ТОК БОЛЕС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тереферон бет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interferon beta 1a и interferon beta 1b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тирамер ацет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токсантро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тализума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CE5-BF15-434C-8780-7EB0EC2EF4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ИМПТОМАТСКА 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мена процедура физикалне рехабилитације спада у симтоматску терапију код пацијената са МС-ом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ође је неоходна и адекватна психосоцијална подршка од стране породице и друшт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2B29-76F2-4FE3-B1B0-0017CB871D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водичу за МС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калну рехабилитацију болесницима са МС од самог почетка болести треба да пружа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ултидисциплинарни тим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и, поред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уролог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треба да чини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едицинска сестра, физијатар, физиотрапеут, радни терапеут, логопед, неуропсихолог, психолог, социјални радни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а по потреби се у овај тим могу укључити нутрициониста, и ортопе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ED7B-AEF2-482B-80E7-5766E21C2A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ветује се усмеравање пацијената на индивидуалнизоване рехабилитационе програме у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амбулантним неурорехабилитационим јединиц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болесника код којих транспорт до амбулантних јединица није могућ, као и оних који имају ограничену покретљивост, рехабилитацију би требало спроводити у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ехабилитационим установама стационарног тип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у којима је рад базиран на интегрисаним рехабилитационим програм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European Multiple Sclerosis Platform, 2012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83C-13FD-4BDB-86FA-367A9F7015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сто физикалне терапије у лечењу МС још увек није довољно разјашње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Принципи</a:t>
            </a:r>
            <a:r>
              <a:rPr b="1" lang="sr-C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изикалну терапију не треба примењивати у фазама активности болести, већ у фазама стабилизације и миро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ора се избегавати свако веће физичко напреза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(замо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мена топлотних процедура може довести до погоршањ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 Uthoff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хабилитациони програм се прави индивиду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E86A-AA9D-4E29-B468-FB454ABBCA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 започиња кинезитерапије имати у вид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Неочекиване ремисије и егзарцебације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Утицај климатских факт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Разноврсност функционалних про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Физичка замарања могу погоршати бол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Болест може погоршати загревање организ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F745-CAB0-4165-BE2F-AF2626E418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ФИЗИОТЕРАПЕУТСКИ ПРЕГЛЕД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7809-12CF-4940-8067-6E1220D684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у мишићног тонуса- Ашворт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у реакција баланса- Бергова скала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ордин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у асоцираних реа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ензацијске активности (претерана употреба неоштећене стране тела или неадекватна употреба оштећене стране те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блеми говора, вида и слух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свакодневног живота- Бартел индек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05A3-84F6-4BE3-9EAF-E5A00E760D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ултипла склероза јест болест која се у неуролошкој класификацији болести сврстава у демијелинизационе бол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а патоанатомска променаје огњиште демијелинизације одн. “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aque”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ла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ултипла склероза представља хронично инфламаторно обољење централног нервног система непознате етиолог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свету болује 2,5 милиона људи од МС-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Србији има 7 000 оболелелих од МС-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93E-D788-4078-A679-143A3E4C3F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функционалности врши се путем ЕДСС ска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ављање рехабилитационог програма врши се путем се функционалном статусу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да се спроводи амбулатно и стационарно, такође се врши обука пацијента за спровођење рехабилитације у кућним условима (кт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EA6C-A179-49CC-BD38-2B967C93AA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оцена према ЕДСС скор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1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нимални степен функционалне онеспособљености (ЕДСС 0-2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к до средњи степен функционалне онеспособљености (ЕДСС 2-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дњи степен функционалног ограничења (ЕДСС 5.5 - 6.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дњи до тешки степен функционалног ограничења уз коришћење инвалидских колица (ЕДСС 7-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шки степен функционалних ограничења, пацијенти везани за кревет већи део дана (ЕДСС 8-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F624-8EE2-4BB1-8732-B503C1B400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0-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државање функционалног статуса, савет за адекватну физичку активност, без специфичних терапијских модалит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2-5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чувању моторних функција, балансу, координацији, мобилности и инхибицији спастиц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ухвата примену ктх, радне терапије, елетротерапије (ЕС,  ТЕНС), примена ортотских средст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20A-0260-4E63-80FE-B9B07DBDA1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5,5-6,5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стационарна рехабилитација, акценат на терапији повишеног тонуса; КТХ, криотерапија, ФЕС, ТЕНС, хид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7-8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одржавање мобилности колицима. КТХ програм за јачање ГЕ и редукцију спастицитета, баланси и транфер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8-9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одржавање мобилности у кревету и превенија компликација (контрактура, РС, КВС, декубит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BDB-5D36-46F8-A57A-E736AC4A0C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за побољшање равнотеж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уралних реакц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приоцептивне контроле доњих екстремитета (Френкелове вежбе)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инхибиције тонуса (пасивне и активне) кроз рефлексно инхибиторне положаје и покре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са отпором и аеробни тренин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дукција пацијент и породице за спровођење ктх програма у кућним усл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C4F-97D6-4050-BE97-3687D5F02A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ренкелове вежб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ложене вежбе за поправљање проприоцептивне контроле 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чиње се једностравнијим вежбама, након тога се усложњавају. Ове вежбе се користе када постоји оштећење проприоцептора због поремећаја ЦНС-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е се под контролом физиотерапе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могуће појаве замора свака вежба се изводи не више од 4 пута у свакој сер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воде се у 4 положаја: лежећи, седећи, стојећи и вежбе у хо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17A-AF9F-484F-9E7F-4905ACD70F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Вежбе инхибиције тонуса (пасивне и активне) кроз рефлексно инхибиторне положаје и покрет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батов третман се састоји у измени абнормалних положаја и покрета код израженог спастицит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астицитет се мења на два начи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моћу статичког рефлекса инхибирајућег положаја физиотерапеут успоставља образце контролише и држи део тела болес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рефлекс инхибирајући покрет, фацилитирамо вољне и усмерено циљани покре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9A99-D26A-4BBB-8C02-F6614F6798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роприоцептивна неуромишићна фацилитација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абат метод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снива се на постизању максималне контракције парализованих мишића у фацилитацији максималних вољних покретакоје човек кори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разац покрета је дијагоналан: интерна- ектерна ротација,флексија-екстензија, абдукција-адду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зми ПНФ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покрета против максималног отпора (основа фацилитације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вољних покрета рефлекс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вољних покрета путем ирадиј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вољних покрета помоћу другог (агонист-антагонис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B31C-B8AC-4A88-A136-E3A43E0219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Хидрок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моћава пацијенту да дуже буде актив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 позитивно психотерапијско деј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маже јачању ослабљен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рочито се саветује пацијентима са отежаним ход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хладне диферентне зон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26-30</a:t>
            </a:r>
            <a:r>
              <a:rPr b="0" lang="en-US" sz="2400" spc="-1" strike="noStrike">
                <a:solidFill>
                  <a:srgbClr val="40458c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A878-72C9-4181-8987-92BC618E08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рио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но делује на смањење гама спастич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ладноћа доводи до смањења надражњивости гама-моторног система (мишићно вретен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FA5-5A17-4933-9AB6-9248C2FCD2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ци настанка МС-а су непозна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утоимуна болест, где организам грешком ствара Ат која нападају мијелински омотач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нку болести допориносе наслеђе, стрес, утицај околине, клима, начин живота и неправилна исхр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и научници сматрају да неки вируси и бактерије доводе до настанка бол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0D2-2C24-44F9-98BF-D2D3D1BA0A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лектростимул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интензивној ЕС Голџијевог апарата у тетивама долази до релаксације третираног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јашњење антиспастичног деловања лежи у тзв аутогеној инхиби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антагонистичких мишића такође доводи до релаксације спасичних мишића на основу Шерингтонове реципрочне инерв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на пр. ЕС екстензора доводи до релаксације флексор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D3C-D704-4063-81FF-3D4B934C3F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330948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ahoma"/>
              </a:rPr>
              <a:t>КЛИНИЧКА ФИЗИКАЛНА ТЕРАПИЈА БОЛЕСНИКА С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АРКИНОНОВОМ БОЛЕШЋУ</a:t>
            </a:r>
            <a:r>
              <a:rPr b="1" lang="fr-FR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ова болест је прогресиван поремећај централног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да у групу неуродегенеративних обољ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и симптоми болести је још 1817. описао енглески лекар др. Јамес Паркинсон, који ју назива дрхтајућа парали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поремећај покрета присутан у 1-2 % популације преко 65 год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шћи код мушкара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EE2B-2797-4867-9B29-0A9741BFAE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ова болест је најчешћи облик паркинсонизма (тремом, ригор, брадикинез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се назива и идиопатска Паркинсонова болес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уги облици паркинсонизма укључу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лтиплу системску атрофиј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гресивну супрануклеарну парализу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изам изазван лек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1E44-E924-408A-A6E9-E3ACBA98AD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мозгу постоје неуротрансмитери – допамин и ацетилхолин који, у међусобној равнотежи, преносе поруке између нервних ћелија и мишића. То нам омогућава да изводимо читав низ координисаних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оболелих од Паркинсонове болести та је равнотежа поремећена јер долази до пропадања допаминергичких неурона и када пропадне њих 80%, почиње се манифесовати боле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тра се да разлог за то може бити више различитих фактора као што су: генетска склоност, фактори околине и вирус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DCE-91BE-4496-A2C8-CBC62EDF41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кстрапирамидни систе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куп језгара и њихових веза изван пирамид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а функција екстрапирамидног система односи се на повезане покрета, постуралне реакције и аутоному интегр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рапирамидни систем је функцијски сист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делови су: базалне ганглије и њихове везе са деловима мезенцефалона, вестибуларног апарата и деловима коре мозга која учествује у моторној контрол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Г су филогенетски најстарји део мозг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A4F3-0B48-4671-B6B3-71D8AF628E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залне ганглије ч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ucleus caud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puta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globus palid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чествују у стварању покр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оли рефлекса на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стварању аутоматиз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653-089B-4CB9-B452-5B004945AE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КСТРАПИРАМИДАЛНИ СИСТЕМ сложени део нервног система који учествује у регулацији покрета, равнотеже, тонуса мишића и мишићних рефлек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F66-8C58-482E-8EBC-B0F92632F1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09120" y="1828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Генетска условље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рано и убрзано стар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еловање токс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таболички поремећа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нфе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47960" y="19047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мунолошки поремећа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моционалне трау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дикаментоз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уморски паркинсониза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уматски паркинсониза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96A-A58D-42EE-953D-BE089CA1DA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5238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емор у мир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груб, велике амплитуде, асиметричан; појачава се са узбуђењем; губи се у сну и при вољним радњама (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ројање новца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ажење педала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радикинезија 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ешкоће са АДЖ; осиромашење аутоматских покрета (махање рукама у ход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игор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чан мишићни тонус или укоченост мишића; «оловна шипка«; Негроов феномен (зупчасти точа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CDD-5867-49A7-905B-908F912441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се јавити у свакој животној доби, али најчешће између 20 и 45 годи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Жене 2-3 пута чешће обољевају од мушкара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F2C-E1F0-48F9-BC96-DCA716FAE8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Постурална нестабилност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нестабилност и заношење при ходу (губитак постуралних рефлекс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Рукопис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екстрапирамидна микрограф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Говор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монотон, сливен, тих </a:t>
            </a:r>
            <a:r>
              <a:rPr b="0" lang="sr-CS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неразумљи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Дисфунција аутономног нервног система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оштећена диг. перисталтика, дисфункција бешике, хиперсаливација, ортостатска хипотенз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Депресија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блага или умерена депресија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 50 %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а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Когнитивно оштећење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благо когнитвно оштећење са оштећењем визуелно-просторне перцепције, пажње и концентрације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 ⅓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а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1E6C-DD6B-4CD4-9DBC-1D4BD8AD31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РЕМЕЋАЈ ХОДА</a:t>
            </a:r>
            <a:br>
              <a:rPr sz="3600"/>
            </a:b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ИПОКИНЕТСКИ ХО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инуирани поремећај хода у ПБ где је смањена је брзина хода, као последица смањене амплиту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спорење корака, а вероватно и брадикинезија уопште, настаје услед поремећаја централног генератора дужине кора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ба узети у обзир и повишење мишићног тонуса оболелог од ПБ који је флектиране постуре и укочен, као фактору који значајно доприноси постуралном поремећ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08B-A39E-4DF4-B5CD-59D53E6C3D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РЕМЕЋАЈ ХОДА</a:t>
            </a:r>
            <a:br>
              <a:rPr sz="4000"/>
            </a:b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РИЗИНГ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рста акинезије приликом које пацијенти имају краткотрајне периоде када се осећају као „блокирани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разумева епизодични поремећај хода који типично траје неколико секунди, обично 1 до 2с а ретко дуже од 10с, током којег оболели има доживљај да стопала не може да одвоји од подлоге, упркос менталном напору да превазиђе ову препреку и настави крета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5E63-B406-4E00-A78A-94325DFCFE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РИЗИНГ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0E33-EADC-42FB-BA18-7DB0022E9C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685800" y="1752480"/>
            <a:ext cx="243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Замор, стрес, когнтивно оптерећење, анксиозност и депресија доприносе појав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Јавља се у одмаклом стадијуму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постоје специфичне метод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јагноза се поставља на основу неуролошког преглед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и симптом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мор у миру; обично више изражен на једној страни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игор (укоченост мишића руку, ногу и вра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радикинезија (успорење покре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B9B-A315-41D9-9F28-1E7E3D16E8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лече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odop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hibitori enzima monoaminoksidaze tipa B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antiholinergici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  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иршко лече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ереотаксија,палидотомија и стимулација дубоког мозг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384-4254-42B8-97E5-2B766E6BCD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 – најзначанија, треба је спроводити систематично и доживот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отерапија- ручна масажа- смањују риг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кинезитерпија – смањује ригор мишића, побољшава флесибилност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уз надзор терапеута због губитка аутоматских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воде 37-38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терапија- смањује риг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стимул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6DA-CAB5-404C-AA88-2BDABB5957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стоји се од низа поступака који су усмерени на основне функционалне поремећаје паркинсониз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упадљиве сметње вољног, рефлексног и аутоматског мотилит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пшта психомоторна успореност и немогућност извођења брзих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отежан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сметње го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22D-F03C-4D5D-BFF0-0C0E50D850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 може да успори или заустави дегенеративне процесе на базалним ганглиј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оходна је мотивисати пацијента за сарадњ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 програм се поставља индивидуално, према функционалном статусу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функционалном статусу неопходно је регистровати све поремећаје  знаке Паркинсонове болести: тремор, ригор, хипокинезија, оштећење постуралних рефлек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3AF1-C6EE-4BAD-AEEA-44DA1D6E06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A73B-CFC4-4F18-8F70-BE8FF9B80A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илекциона места где се плакови чешће јавља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ивентикулар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тикалн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тичк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пус калосу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дано стабл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ребелу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ула спиналис (нарочито вратни де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998D-68B3-49B7-981D-0A09CA4871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ТРЕМО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емор у м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се јавља у рукама, ногама, лицу или као тремор глав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унилатер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се смањује при циљаном покре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C40-027D-4F22-9EAF-5D51E2E9A6C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РИГ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ишен тонус по типу риг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пор при пасивном покрету се описује као феномен “оловне шипке” и “феномен зупчастог точка” или Негроов феном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ује се покретима врата и екстремитет у целом обим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присут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једностран или обостр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FA41-0871-4209-940D-CAA1EFE089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кин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узрок инвалидитета код оболелих од П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ипокинезија је смањена амплитуда покрета, док је брадикинезија спорост покрета, губитак ритма и сиромаштво спонтане мотор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рост вољних покрета одговорна је за тешкоће у свакодневном живо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матра се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кретање пацијента у кревету, устајање са столице, жвакање хране, облачење, умивање, ход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1032-8FCE-457D-8B4B-819BE03BA6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постуралних рефлек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 инавлидитета код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сматра се устајање пацијента, процена става и равнотеже (благо се гурн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роцењује се способност да се окрећу и мењају правац 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ACC-ED25-4432-906A-AEB8E1C3A3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израза лиц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лице особа са ПБ је безизразно (као маска), поглед укочен,мимика успорена (хипомимиа, амимиа), лице сјајно (“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cies oleosa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го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говор је монотон, слабије артикулисан и успоре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рукопи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к пише ситним словима, током писања једног реда, слова се смању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7E3-4B91-4F9A-86ED-72419E24D9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37720" y="19051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х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ход код особа са ПБ је поремећен, због хипертоније, спори малим корацима, тежиште тела померено пут напред (склони су паду и повређивањ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3CE-99CB-401B-818D-2F858E2BEB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физиотерапеутског прегледа врши се постављање адекватног индивидуалног кинезитерапијског прогр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 врши се путем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ергова скала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Унификована скала за процену Паркинсонове боле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3. ПА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kinson Activity Scal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ест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B65-1E30-4748-B14F-18B94DC263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истезањ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истезања су први корак у програм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ве вежбе повећавају обим покрета у зглобовима, помажу у побољшању става тела, штите зглобове од истегнућа и уганућа, побољшавају циркулацију и опуштају мускулату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тезање се врши до осећаја лаког истегнућа а не до осећаја бо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е се свакодневно, по 3 пута сва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D88C-50F6-49B7-9D5D-B800CED011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снаг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ју вежбе против отпора, а отпор може представљати сама тежине дела тела, отпор еластичним трак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јачање мишића, помаже побољшању постуре, побољшавају општу кондицију, смањују ризик од пада, смањује замо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снаге повећавају минералну коштану густину (остеопороз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аки дан радити вежбе снаге за другу групу мишића, постепено повећавати број понављања, без зам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E3C6-3FFB-4150-A54E-6C5ADD1843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асивне вежб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циљу истезања мишића и мекоткивних структ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ју развој контракт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558-E6F7-44B3-9075-6F34474D32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1430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33720" indent="-3337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еминованост лезије у простор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т почиње појавом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естезија у појединим деловима тел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а слабост у виду хемипареза, монопареза или парапар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тробулбарни неу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пло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тиг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стабилност при хо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143-7E06-492D-BADC-B358F3A40E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проприоцеп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хода, увежбавање окретања, устајање са стол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на балансним даска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183-DDF7-4ADC-BA20-1F25BF3776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Аеробне вежб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еробне или вежбе кондиције су вежбе које укључују активност целог тела, при чему, осим мишића, тренирамо и капацитет срца и плућа. Међу аеробичке активности можемо уврсти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и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ожња бицик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ес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олф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ветује се три пута недељно, 20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се спроводити групно или индивиду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C71-20FC-4B3E-AFA4-FBC9D43359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авила за кт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спроводити увек приближно у исто време, када је пацијент најодморнији и најопуштен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ком вежбања носити удобну одећу и обућ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мпо и број вежби прилагодити (избећи замо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аку вежбу изводите полако, уз задржавање постигнутог положаја, најмање 5 а највише 10 с  и  поновити 8-10 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ком вежбање уједначени ритам дис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авезно водите дневник пад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D6C2-E578-445D-BA97-2ACA7165BB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дисањ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дисања можете проводити у седећем или лежећем положају, рамена опуштена, држећи дланове на трбуху, дубоко удахните на нос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ећајући како се руке одижу с трбухом, затим полако издишите на уста као да гасите свећ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8DB-8D9F-4F7E-BF74-E55819B822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Вежбе за мимичну мускулатур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ежбе проводите пред огледал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евајте и читајте наглас, уз наглашавање покрете уснама, рецитирајте азбуку и бројите наглас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Добро жваћите храну, премештајте је с једне стране уста на другу, а избегавајте гутање великих залога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Чврсто затворите очи и онда их јако отворите и подигните обрве гор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дујте образе, затим премештајте ваздух с једне стране на другу и потом га лагано испустите кроз мало отворена ус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дујте образе, прсте обе руке ставите на образе, покушајте прстима истиснути ваудух, чврсто стишћући усн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A53E-1F07-4EBB-A984-5F40057CFF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Вежбе хода и координације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улишу постурални став и враћају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жиште уназ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ходу треба ходати на широкој основи (25-30 цм између стопа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олисати положај ноге за време њихања и правилно додиривати под петом и пуним стопа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учити паијента за спровођење ктх програма у кућним усл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2F37-4EDA-4137-83EF-CC17E494B26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Вежбе хода- основна правил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ите дуже кора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ижите прсте приликом започињања корака а кад спуштате стопало на под, прво спустите п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одајте благо размакнутих ногу, како би си осигурали 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авезно гледајте испред себ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истите руке, нека се слободно њиш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користите само праволинијска 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водите више активности одједн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074-4465-4D66-98B0-473F6BEE733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хода- основна правил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сваки следећи корак постаје све краћи СТАНИТЕ и поновно крените с дугачким кора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се „закочите“, останите мирни, подигните главу горе, опустите се и покушајте корачаи у  месту или се љуљајте с једне на другу страну, затим се подижите на прсте и спуштајте на пе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ликом окретања увек држите стопала размакнута, поглед испред себе и прво окрећите главу а ако се окрећете иза угла ходајте у широком лу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E363-7B40-4746-94C8-FC76BB70AE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ад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ек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инезиолошки је многоструко понављање покрета у оквиру радне терапије доприносе побољшању спретност, координације и функционалности 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сихосоцијал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обољшање у активностима дневн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бољшање у професионалном оспособљава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2B8-A575-43C5-9581-75AA9BC45F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оцена функционалности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Бергова скала балан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180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Скaлa сaдржи 14 функциoнaлних зaдaтaкa зa прoцeну бaлaнсa (код стaриjих oсoбa сa пoрeмeћajeм рaвнoтeжe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180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oтрeбнo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лeњир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вe стaндaрндe стoлицe, (jeднa сa нaслoнoм, другa бeз нaслoнa)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стeпeр или хoклицa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штoпeрицa или ручни сaт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oстoр oд нeкoликo мeтaр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1800"/>
              </a:spcBef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oтрeбнo врeмe: 15 – 20 min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55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1F4-DD84-4ABC-8390-F36EE8686F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нутно прихваћена класификација МС дефинише 3 клиничке презентације боле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релапсно ремитент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секундарно прогресивн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имарно прогресив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највећем броју случајева МС 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елапсно-ремитентног то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оји се карактерише епизодама погоршања неуролошког статуса (релапса) праћених периодима опоравка и релативне клиничке стабилности (ремисије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B76E-CC17-4FDD-AA01-293C183BED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. Прелазак из седећег у стојећи положај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устаните. Покушајте да се не помажете рукама приликом устаја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устане без употребе руку и да се стабилиз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устане помажући се рук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устане помажући се рукама из неколико покуша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а минимална помоћ приликом устајања и стабилизо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рилична или максимална помоћ око устај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7E0F-58F3-4D62-864C-DA7B3A8F9C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2. Стајање без подрш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тојте усправно без подршке 2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сигурно два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два минута са надзор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без подршке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о неколико покушаја да стоји без подршке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е може да стоји без подршке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о је испитаник способан да стоји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2 m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без подршке, онда скор за стајање без подршке износи 4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D6D-8AB9-4654-8B76-9F710CC139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3. Седење на столици без насло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едите са прекрштеним рукама 2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сигурно два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два минута са надзор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е може да седи без подршке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8952-C341-4E40-A23A-F09E7D50CD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4. Прелазак из стојећег у седећи положај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еди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не уз минимално придржавање рук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контролише седање уз помоћ рук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да ослањајући се ногама на столиц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да сам али неконтролиса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ругог лица да сед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D232-3EA5-44BF-802D-58C226853C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5. Трансфер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: Припремите столице за трансфере. Замолите испитаника да седне са столице без наслона на столицу са наслоном. Можете користити две столице (једну са наслоном и другу без наслона) или кревет и столиц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уради трансфер уз минималну помоћ рук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уради трансфер придржавајући се рука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уради трансфер уз вербалну помоћ и надзор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требна једна особа да помогне при трансфер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требне две особе да би се трансфер обавио сигур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E9C4-BE9E-4252-AE59-354FF68917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6. Стајање без подршке са затвореним очи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затворите очи и покушајте да тако стојите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10 секунди уз наџ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3 секун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е може да стоји 3 секунде са затвореним очима, али стоји сигурно са отвореним оч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испитаник не пад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66B-A1A1-4FB9-B1AB-681FAE8339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7. Стајање без подршке са спојеним нога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таните спојених ногу без придржа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игурно стоји са спојеним ногама без придржавања 1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игурно стоји са спојеним ногама без придржавања 1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з надз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игурно стане са спојеним ногама без придржавања али не дуже од 3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заузме положај али може да га одржи 1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заузме положај али не може да га одржи 1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5251-CBA3-4D83-B446-AB123C4F6A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8. Досезање напред са испруженим рукама у стојећем положају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Станите бочно поред зида. Подигните руку до 90˚. Испружите прсте докле год можете, а да при том не искорачите (испитивач мери растојање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досегне напред 2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досегне напред 12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досегне напред 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сеже напред али уз наџ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к покушава губи баланс / потребна помо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5C4C-1D8F-4D29-BAF7-9887B10F3E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9. Подизање предмета са пода из стојеће пози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нструкција: Подигните ципелу / папучу испред Ваших ног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4 способан-а да подигне папучу лако и безбед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3 способан-а да подигне папучу али потребан надзор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2 не може да дохвати папучу, али одржава баланс 5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m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до папуч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1 не може да дохвати папучу и потребна му је помоћ приликом враћањ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0 не може да покуша, потребна помоћ да не изгуби равнотежу и да не падн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64B-5D58-4C15-9348-E05F9C147E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10. Поглед преко левог и десног рамена док стој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Погледајте иза себе преко свог левог рамена (са ротацијом у трупу). Поновите то и са дес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ране (испитивач може бити иза његових л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ђ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држећи предмет у руци у који ће испитаник да поглед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а сигурношћу погледа преко оба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а сигурношћу погледа преко једног, а несигуран поглед преко другог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окреће се бочно одржавајући бала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 надзор приликом о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приликом о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E510-3999-4C4A-86DE-962CFE1BFA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елапс болести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 непредвидив, како у смислу времена настајања, тако и манифест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и знаци неуролошког оштећења који се у оквиру релапса могу јавит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 нагле промене у сензибилитет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 контроли бешике и црев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равнотежи,         - когни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снази,                 - бол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виду,                   - координац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1677-30A6-4C57-BE5E-D384BFDEBA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1. Окрет за 360 степен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Направите пун круг, правећи кораке, пауза, онда се окрените у другом сме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 да се са сигурношћу окрене за 36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 4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окрене за 36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једну страну за дуже од 4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окрене за 36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али полак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 наџор приликом окретања и вербалана подрш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приликом о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A8F1-B4C7-4D07-BA8E-02DEB35F45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12. Искорак напред у стојећем положају без подршк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искорачите стопалом на столичицу, једн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а другом ногом. Поновите то 4 пут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 оба стоп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8 искорака за 2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8 искорака за дуже од 2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4 искорака без помоћи али уз надз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2 са минималном подрш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одржи положај / не може да покуш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7205-D255-4BA8-A838-4FADED793F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3. Искорак напред без подршк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нструк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: Поставите стопала једно испред другог. Ако мислите да не можете тако да их поставите, онда покушајте да их удаљите али да остану у истој равн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заузме положај и да га одржи 3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стави ногу испред ноге (искорак треба да буде дужи од дужине стопала) и одржи 3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направи мали искорак и оџи га 3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требна помоћ да искораћи али онда одржава положај 15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губи равнотежу приликом искорака или стајањ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6119-65A5-4C1E-9998-E21B7B4E21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4. Стајање на једној ноз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: Станите на једну ногу колико год можете без придржавањ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дигне ногу и одржи положај преко 1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дигне ногу и одржи положај 5–1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дигне ногу и одржи положај око 3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кушава да подигне ногу не може да одржи положај ни 3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, али не губи равнотеж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губи равнотежу приликом покушаја, потребна заштита од пад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5D7-5390-410B-A536-1ED7E3F3C0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ТУМАЧЕЊЕ РЕЗУЛТА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1 – 56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изa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eпeн ризикa oд пaд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1 – 40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рeдњ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eпeн ризикa oд пaд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 – 20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исo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eпeн ризикa oд пaд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купан резултат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ксимум 5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аник мора разумети да све време мора одржавати баланс покушавајући да испуни задат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бор, којом ће ногом иступити или која ће му бити стајна препуштени су испитанику. Лоша процена ће имати негативан утицај на укупан резултат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CB8D-1F4C-4AC7-BEC3-1C21326EB4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Hen и Jarova СКАЛА ЗА ПРОЦЕНУ ТЕЖИНЕ ПАРКИНСОНОВЕ БОЛЕСТ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: нема знакова боле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: унилатерална боле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,5: унилатерална болест уз аксијалну захваћено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2: обострана болест , без поремећаја равноте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2,5: блага обострана болест, успева да поврати равнотежу током наглог повлачења или гурања у стојећем ставу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3: блага до умерена обострана болест , извесна постурална нестабилност, физички независта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4: тешка онеспособље, још увек хода или стоји без помоћ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5: везан за покретна колица или кревет уколико му се не пома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E5D-8A46-46AE-BC77-4616FC329F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моторних знакова врши се путем Унификоване скале за процену Паркинсонове болести (Unified Parkinson's Disease Rating Scale - UPDR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достатак ове скале је што се њоме не процењују адекватно немоторни симптоми П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жина болести врши се путем H&amp;Y ска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4F54-FE0B-4999-A968-D3F4FCE192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8:06:02Z</dcterms:modified>
  <cp:revision>945</cp:revision>
  <dc:subject/>
  <dc:title>Rehabilitacija traumatoloških bolesnika</dc:title>
</cp:coreProperties>
</file>